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6120" y="1233000"/>
            <a:ext cx="4444920" cy="333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27F0-E3AC-4619-852A-0AEE0553043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B78A-4470-4F62-A63B-D2AED3ED36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8F7-5FA2-44FE-948F-78EF0EE2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90C-A1FC-4663-8666-0D687551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08F-D407-4B67-9ED7-886BA79D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3E9-8444-4C3A-A173-C04B96C1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697-B654-4A9F-896D-CFF77002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893-E130-4C09-90C1-D35C9862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4FD-A862-4419-81E8-F6428BA2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D9A-F763-4263-A1BD-1FE7D8F1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DB1-D229-4F32-B358-21D172B0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B77-79CC-484B-8C1E-FF792911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7D1-029B-4281-BBD7-5F06E047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E7B-0B72-493A-8613-64ACBE46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893-C633-4776-A82C-74B7D3DE2E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2e45"/>
                </a:solidFill>
                <a:latin typeface="Verdana"/>
              </a:rPr>
              <a:t>ОТРАДНЕНСКОЕ СЕЛЬСКОЕ ПОСЕЛЕНИЕ ЧАМЗИНСКОГО МУНИЦИПАЛЬНОГО РАЙОНА</a:t>
            </a:r>
            <a:br>
              <a:rPr sz="2400"/>
            </a:br>
            <a:r>
              <a:rPr b="1" lang="ru-RU" sz="2400" spc="-1" strike="noStrike">
                <a:solidFill>
                  <a:srgbClr val="162e45"/>
                </a:solidFill>
                <a:latin typeface="Verdana"/>
              </a:rPr>
              <a:t>РЕСПУБЛИКИ МОРДОВИЯ</a:t>
            </a: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162e45"/>
                </a:solidFill>
                <a:latin typeface="Tahoma"/>
              </a:rPr>
              <a:t>БЮДЖЕТ ДЛЯ ГРАЖД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cc"/>
                </a:solidFill>
                <a:latin typeface="Times New Roman"/>
              </a:rPr>
              <a:t>к решению Совета депутатов Отрадненского сельского поселения Чамзинского муниципального района  __.___.2024 №__«Об утверждении отчета об исполнении бюджета Отрадненского сельского поселения Чамзинского муниципального района Республики Мордовия за 2023 го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2e45"/>
                </a:solidFill>
                <a:latin typeface="Tahoma"/>
              </a:rPr>
              <a:t>Расходы бюджета Отрадненского сельского поселения Чамзинского муниципального района </a:t>
            </a:r>
            <a:br>
              <a:rPr sz="2400"/>
            </a:br>
            <a:r>
              <a:rPr b="1" lang="ru-RU" sz="2400" spc="-1" strike="noStrike">
                <a:solidFill>
                  <a:srgbClr val="162e45"/>
                </a:solidFill>
                <a:latin typeface="Tahoma"/>
              </a:rPr>
              <a:t>(на душу населения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73040" y="1828800"/>
          <a:ext cx="8229600" cy="4229280"/>
        </p:xfrm>
        <a:graphic>
          <a:graphicData uri="http://schemas.openxmlformats.org/drawingml/2006/table">
            <a:tbl>
              <a:tblPr/>
              <a:tblGrid>
                <a:gridCol w="5181480"/>
                <a:gridCol w="990720"/>
                <a:gridCol w="1066680"/>
                <a:gridCol w="990720"/>
              </a:tblGrid>
              <a:tr h="620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Расходы поселения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рублей/че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021 год (фак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022 год (фак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023 год (фак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Всего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67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737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738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60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844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21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9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9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0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4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62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3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5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9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76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7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58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7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90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90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Национальная безопас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униципальные программы, принятые к финансированию из бюджета Отрадненского сельского поселения Чамзинского муниципального района Республики Мордовия, в 2021-2023 годах (тыс. рублей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0880" y="1981080"/>
          <a:ext cx="8305920" cy="2590920"/>
        </p:xfrm>
        <a:graphic>
          <a:graphicData uri="http://schemas.openxmlformats.org/drawingml/2006/table">
            <a:tbl>
              <a:tblPr/>
              <a:tblGrid>
                <a:gridCol w="4572000"/>
                <a:gridCol w="1219320"/>
                <a:gridCol w="1219320"/>
                <a:gridCol w="1295280"/>
              </a:tblGrid>
              <a:tr h="32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Расходы бюджета Отрадненского сельского поселения, (тыс.рубл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57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65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402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в рамках муниципальных программ, (тыс.рубл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08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253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388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Доля муниципальных программ в общих расходах,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8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95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61616"/>
                          </a:solidFill>
                          <a:latin typeface="Times New Roman"/>
                          <a:ea typeface="Times New Roman"/>
                        </a:rPr>
                        <a:t>96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Прямоугольник 5"/>
          <p:cNvSpPr/>
          <p:nvPr/>
        </p:nvSpPr>
        <p:spPr>
          <a:xfrm>
            <a:off x="423720" y="5029200"/>
            <a:ext cx="83059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61616"/>
                </a:solidFill>
                <a:uFillTx/>
                <a:latin typeface="Times New Roman"/>
              </a:rPr>
              <a:t>Государственная (муниципальная) программа</a:t>
            </a:r>
            <a:r>
              <a:rPr b="1" lang="ru-RU" sz="20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161616"/>
                </a:solidFill>
                <a:latin typeface="Times New Roman"/>
              </a:rPr>
              <a:t>– документ, определяющий цель, задачи, результаты, основные направления и инструменты государственной политики, направленные на достижение целей и реализацию государственных приорите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Финансирование муниципальных программ за 2023 год (тыс. рублей)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400040"/>
          <a:ext cx="8686800" cy="5035680"/>
        </p:xfrm>
        <a:graphic>
          <a:graphicData uri="http://schemas.openxmlformats.org/drawingml/2006/table">
            <a:tbl>
              <a:tblPr/>
              <a:tblGrid>
                <a:gridCol w="401400"/>
                <a:gridCol w="5133960"/>
                <a:gridCol w="1170000"/>
                <a:gridCol w="1059120"/>
                <a:gridCol w="922320"/>
              </a:tblGrid>
              <a:tr h="695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Наименование программ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Предусмотрено на 2023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Исполнено за 2023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Процент исполнения, 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Муниципальная программа «Развитие муниципальной службы в Отрадненском сельском поселении Чамзинского муниципального района Республики Мордов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59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58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9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Муниципальная программа «Развитие автомобильных дорог» в Отрадненском сельском поселении Чамзинского муниципального района Республики Мордов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35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35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Муниципальная программа "Повышение эффективности управления муниципальными финансами в Отрадненском сельском поселении Чамзинского муниципального района Республики Мордовия 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Муниципальная программа «Профилактика правонарушений на территории Отрадненского сельского посел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Муниципальная программа «Благоустройство территории Отрадненского сельского поселения Чамзинского муниципального район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43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25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8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Муниципальная программа "Комплексное развитие сельских территорий Отрадненского сельского поселения"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63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63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Муниципальная программа Отрадненского сельского поселения Чамзинского муниципального района Республики Мордовия «Охрана окружающей среды и повышение экологической безопасности на территории Отрадненского сельского поселения 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4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7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Бюджет для граждан подготовлен Администрацией Отрадненского сельского поселения Чамзинского муниципального района Республики Мордовия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ahoma"/>
              </a:rPr>
              <a:t>Адрес: Республика Мордовия, Чамзинский район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ahoma"/>
              </a:rPr>
              <a:t>с. Отрадное, ул. Ленина, д. 8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ahoma"/>
              </a:rPr>
              <a:t>Телефон: 8-8(3437)-26-1-4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дрес электронной почты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tradnoeSP@e-Mordovia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рафик работы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понедельника по пятницу - с 8-30 до 17-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ббота, воскресенье - выходные дн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денный перерыв - с 13-00 до 14-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ект Решения «Об утверждении отчета об исполнении бюджета Отрадненского сельского поселения  Чамзинского муниципального района Республики Мордовия за 20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год» размещен на официальном сайте администрации Отрадненского сельского поселения Чамзинского муниципального района Республики Мордов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сто и время рассмотрения Решения на публичных слушаниях будет дополнительно опубликовано в Информационном бюллетен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2e45"/>
                </a:solidFill>
                <a:latin typeface="Times New Roman"/>
              </a:rPr>
              <a:t>Основные показатели социально-экономического развития Отрадненского сельского поселения Чамзинского муниципального района за 2021-2023 годы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905120"/>
          <a:ext cx="8381880" cy="4392360"/>
        </p:xfrm>
        <a:graphic>
          <a:graphicData uri="http://schemas.openxmlformats.org/drawingml/2006/table">
            <a:tbl>
              <a:tblPr/>
              <a:tblGrid>
                <a:gridCol w="3692520"/>
                <a:gridCol w="1397160"/>
                <a:gridCol w="1695240"/>
                <a:gridCol w="1596960"/>
              </a:tblGrid>
              <a:tr h="49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 (фак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 (фак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год (фак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енность населения, че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6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0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 роста к уровню прошлого года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57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оборота розничной торговли во всех каналах реализации, тыс.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0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91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7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 роста к уровню прошлого года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введенного в эксплуатацию жилья с учетом индивидуального жилищного строительства, (кв.м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 роста к уровню прошлого года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упка молока от сельхозтоваропроизводителей, тон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п роста к уровню прошлого года,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2e45"/>
                </a:solidFill>
                <a:latin typeface="Tahoma"/>
              </a:rPr>
              <a:t>Основные параметры исполнения бюджета Отрадненского сельского поселения Чамзинского муниципального района</a:t>
            </a:r>
            <a:br>
              <a:rPr sz="3200"/>
            </a:br>
            <a:r>
              <a:rPr b="0" lang="ru-RU" sz="2000" spc="-1" strike="noStrike">
                <a:solidFill>
                  <a:srgbClr val="162e45"/>
                </a:solidFill>
                <a:latin typeface="Tahoma"/>
              </a:rPr>
              <a:t>(тыс.рублей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981080"/>
          <a:ext cx="8382240" cy="4343400"/>
        </p:xfrm>
        <a:graphic>
          <a:graphicData uri="http://schemas.openxmlformats.org/drawingml/2006/table">
            <a:tbl>
              <a:tblPr/>
              <a:tblGrid>
                <a:gridCol w="2095560"/>
                <a:gridCol w="1241640"/>
                <a:gridCol w="1087200"/>
                <a:gridCol w="1366920"/>
                <a:gridCol w="1116000"/>
                <a:gridCol w="147492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Факт 2022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План 2023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Исполн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023 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% испол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ост(+)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Снижение (-) к 2022 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Доход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84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3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12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7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налоговые и неналог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7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1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0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7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2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1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4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асход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65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22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2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6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Дефиц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8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6"/>
          <p:cNvSpPr/>
          <p:nvPr/>
        </p:nvSpPr>
        <p:spPr>
          <a:xfrm>
            <a:off x="236520" y="279360"/>
            <a:ext cx="867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62e45"/>
                </a:solidFill>
                <a:uFillTx/>
                <a:latin typeface="Times New Roman"/>
              </a:rPr>
              <a:t>Динамика доходов бюджета Отраднеснкого сельского поселения Чамзинского муниципального района Республики Мордо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62e45"/>
                </a:solidFill>
                <a:uFillTx/>
                <a:latin typeface="Times New Roman"/>
              </a:rPr>
              <a:t>за 2019-2023 годы</a:t>
            </a:r>
            <a:br>
              <a:rPr sz="2000"/>
            </a:br>
            <a:r>
              <a:rPr b="0" lang="ru-RU" sz="1600" spc="-1" strike="noStrike">
                <a:solidFill>
                  <a:srgbClr val="162e45"/>
                </a:solidFill>
                <a:latin typeface="Tahoma"/>
              </a:rPr>
              <a:t>(тыс.рублей)</a:t>
            </a:r>
            <a:br>
              <a:rPr sz="20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5" name="Объект 6"/>
          <p:cNvGraphicFramePr/>
          <p:nvPr/>
        </p:nvGraphicFramePr>
        <p:xfrm>
          <a:off x="236520" y="1444680"/>
          <a:ext cx="8632800" cy="49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1444680"/>
                    <a:ext cx="863280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62e45"/>
                </a:solidFill>
                <a:uFillTx/>
                <a:latin typeface="Times New Roman"/>
              </a:rPr>
              <a:t>Структура налоговых доходов </a:t>
            </a:r>
            <a:br>
              <a:rPr sz="3000"/>
            </a:br>
            <a:r>
              <a:rPr b="1" lang="ru-RU" sz="3000" spc="-1" strike="noStrike" u="sng">
                <a:solidFill>
                  <a:srgbClr val="162e45"/>
                </a:solidFill>
                <a:uFillTx/>
                <a:latin typeface="Times New Roman"/>
              </a:rPr>
              <a:t>бюджета Отрадненского сельского поселения в 2023 году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8" name="Объект 5"/>
          <p:cNvGraphicFramePr/>
          <p:nvPr/>
        </p:nvGraphicFramePr>
        <p:xfrm>
          <a:off x="233280" y="1969920"/>
          <a:ext cx="867744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969920"/>
                    <a:ext cx="867744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2e45"/>
                </a:solidFill>
                <a:latin typeface="Tahoma"/>
              </a:rPr>
              <a:t>ДИНАМИКА БЕЗВОЗМЕЗДНЫХ ПОСТУПЛЕНИЙ ОТРАДНЕНСКОГО СЕЛЬСКОГО ПОСЕЛЕНИЯ за 2019-2023 ГОДЫ </a:t>
            </a:r>
            <a:r>
              <a:rPr b="1" lang="ru-RU" sz="2000" spc="-1" strike="noStrike">
                <a:solidFill>
                  <a:srgbClr val="162e45"/>
                </a:solidFill>
                <a:latin typeface="Tahoma"/>
              </a:rPr>
              <a:t>(тыс.рублей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304920" y="1751040"/>
          <a:ext cx="86328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1040"/>
                    <a:ext cx="86328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2e45"/>
                </a:solidFill>
                <a:latin typeface="Tahoma"/>
              </a:rPr>
              <a:t>Расходы бюджета Отрадненского сельского поселения Чамзинского муниципального района</a:t>
            </a:r>
            <a:br>
              <a:rPr sz="2200"/>
            </a:br>
            <a:r>
              <a:rPr b="1" lang="ru-RU" sz="2200" spc="-1" strike="noStrike">
                <a:solidFill>
                  <a:srgbClr val="162e45"/>
                </a:solidFill>
                <a:latin typeface="Tahoma"/>
              </a:rPr>
              <a:t> по разделам классификации расходов 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523880"/>
          <a:ext cx="8763120" cy="5187960"/>
        </p:xfrm>
        <a:graphic>
          <a:graphicData uri="http://schemas.openxmlformats.org/drawingml/2006/table">
            <a:tbl>
              <a:tblPr/>
              <a:tblGrid>
                <a:gridCol w="2243160"/>
                <a:gridCol w="1052640"/>
                <a:gridCol w="1050840"/>
                <a:gridCol w="981000"/>
                <a:gridCol w="1122480"/>
                <a:gridCol w="1190520"/>
                <a:gridCol w="1122480"/>
              </a:tblGrid>
              <a:tr h="1828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Наименование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</a:rPr>
                        <a:t>2021 г. (факт) тыс.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2022 г.  (фак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2023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</a:rPr>
                        <a:t>% исполн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</a:rPr>
                        <a:t>рост(+)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</a:rPr>
                        <a:t>снижение  (-) к 2022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Расходы, 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257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265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22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02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36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54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81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32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30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9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8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3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3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3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9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2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60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35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35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25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</a:rPr>
                        <a:t>В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34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88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207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89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9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01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62e45"/>
                </a:solidFill>
                <a:latin typeface="Tahoma"/>
              </a:rPr>
              <a:t>Расходы бюджета Отрадненского сельского поселения Чамзинского муниципального района по разделам классификации расходов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1600200"/>
          <a:ext cx="8762760" cy="3524400"/>
        </p:xfrm>
        <a:graphic>
          <a:graphicData uri="http://schemas.openxmlformats.org/drawingml/2006/table">
            <a:tbl>
              <a:tblPr/>
              <a:tblGrid>
                <a:gridCol w="2243160"/>
                <a:gridCol w="1052280"/>
                <a:gridCol w="1050840"/>
                <a:gridCol w="1171800"/>
                <a:gridCol w="1297080"/>
                <a:gridCol w="825480"/>
                <a:gridCol w="1122120"/>
              </a:tblGrid>
              <a:tr h="1828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Наименование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</a:rPr>
                        <a:t>2021 г. (факт) тыс.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2022 г.  (фак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2023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</a:rPr>
                        <a:t>% исполн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</a:rPr>
                        <a:t>рост(+)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</a:rPr>
                        <a:t>снижение  (-) к 2020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Verdana"/>
                          <a:ea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Охрана окружающей сре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5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в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7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25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29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29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4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ahoma"/>
                          <a:ea typeface="Times New Roman"/>
                        </a:rPr>
                        <a:t>в 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162e4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2e45"/>
                </a:solidFill>
                <a:latin typeface="Tahoma"/>
              </a:rPr>
              <a:t>Структура расходной части бюджета Отрадненского сельского поселения Чамзинского муниципального района</a:t>
            </a:r>
            <a:br>
              <a:rPr sz="2800"/>
            </a:br>
            <a:r>
              <a:rPr b="1" lang="ru-RU" sz="2800" spc="-1" strike="noStrike">
                <a:solidFill>
                  <a:srgbClr val="162e45"/>
                </a:solidFill>
                <a:latin typeface="Tahoma"/>
              </a:rPr>
              <a:t> в 2023 году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8" name="Объект 5"/>
          <p:cNvGraphicFramePr/>
          <p:nvPr/>
        </p:nvGraphicFramePr>
        <p:xfrm>
          <a:off x="609480" y="1981080"/>
          <a:ext cx="8256600" cy="429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25660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08:54:45Z</dcterms:created>
  <dc:creator>Bud</dc:creator>
  <dc:description/>
  <dc:language>en-US</dc:language>
  <cp:lastModifiedBy>Rahmankullova</cp:lastModifiedBy>
  <cp:lastPrinted>2020-03-24T08:39:38Z</cp:lastPrinted>
  <dcterms:modified xsi:type="dcterms:W3CDTF">2024-02-29T06:29:55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